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6.png" ContentType="image/png"/>
  <Override PartName="/ppt/media/image15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74622-D80C-401A-91C2-925F55EB9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C83FE-0484-4086-AFD4-7BF83742D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4FAD8-B0CD-4498-82E7-D46D4ED7D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8E645-0792-4BED-9BCF-0E5B91E1E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C0E1B-C964-4646-B381-020CC5A22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EC1B1-69CE-400D-A2F1-1F37FD3E4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AF408-7D82-4714-B69C-EDFAEE4DC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08664-362C-4BDF-BF3D-46F14E5B1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A742F-2258-4D19-B3EE-6FA9DCEE4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F131A-35AF-4B2A-ABA1-3D8602AC2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086BD-A0B8-4DFB-9E7B-C442C4731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55722-F3C0-4640-B725-C509C1E0B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7AA0B-6C9F-4E7B-B184-A05C24DF45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hyperlink" Target="http://www.china-mike.com/wp-content/uploads/2011/01/chiang-kai-shek-mao-zedong.jpg" TargetMode="External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fornian FB"/>
              </a:rPr>
              <a:t>CHINA’S ROAD TO COMMUN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fornian FB"/>
              </a:rPr>
              <a:t>A Pre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fornian FB"/>
              </a:rPr>
              <a:t>Modern World His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fornian FB"/>
              </a:rPr>
              <a:t>Communists Organiz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fornian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fornian FB"/>
              </a:rPr>
              <a:t>Peasants revolted (sound familiar?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fornian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fornian FB"/>
              </a:rPr>
              <a:t>Communist Party   [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fornian FB"/>
              </a:rPr>
              <a:t>Mao Zedong</a:t>
            </a:r>
            <a:r>
              <a:rPr b="0" lang="en-US" sz="2800" spc="-1" strike="noStrike">
                <a:solidFill>
                  <a:srgbClr val="000000"/>
                </a:solidFill>
                <a:latin typeface="Californian FB"/>
              </a:rPr>
              <a:t> –son of peasants]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fornian FB"/>
              </a:rPr>
              <a:t>and Red Army</a:t>
            </a:r>
            <a:r>
              <a:rPr b="0" lang="en-US" sz="2800" spc="-1" strike="noStrike">
                <a:solidFill>
                  <a:srgbClr val="000000"/>
                </a:solidFill>
                <a:latin typeface="Californian FB"/>
              </a:rPr>
              <a:t> made first attempt to take over Nationalist Party – they fail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104840" y="1981080"/>
            <a:ext cx="27432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fornian FB"/>
              </a:rPr>
              <a:t>Nationalists vs. Communis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fornian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fornian FB"/>
              </a:rPr>
              <a:t>Chiang Kai-shek began a series of military campaigns to crush the Communist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fornian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fornian FB"/>
              </a:rPr>
              <a:t>“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fornian FB"/>
              </a:rPr>
              <a:t>Extermination Campaign</a:t>
            </a:r>
            <a:r>
              <a:rPr b="0" lang="en-US" sz="2800" spc="-1" strike="noStrike">
                <a:solidFill>
                  <a:srgbClr val="000000"/>
                </a:solidFill>
                <a:latin typeface="Californian FB"/>
              </a:rPr>
              <a:t>” killed 6,000 suspected Communists in 3 day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5334120" y="1752480"/>
            <a:ext cx="2651040" cy="34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fornian FB"/>
              </a:rPr>
              <a:t>Communists Surround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fornian FB"/>
              </a:rPr>
              <a:t>193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fornian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fornian FB"/>
              </a:rPr>
              <a:t>Chiang Kai-shek and the Nationalist Army surround Mao and the Red Arm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533520" y="2133720"/>
            <a:ext cx="3857400" cy="27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fornian FB"/>
              </a:rPr>
              <a:t>THE LONG MAR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fornian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fornian FB"/>
              </a:rPr>
              <a:t>Mao and the Red Army retreated and began 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fornian FB"/>
              </a:rPr>
              <a:t>Long March</a:t>
            </a:r>
            <a:r>
              <a:rPr b="0" lang="en-US" sz="2800" spc="-1" strike="noStrike">
                <a:solidFill>
                  <a:srgbClr val="000000"/>
                </a:solidFill>
                <a:latin typeface="Californian FB"/>
              </a:rPr>
              <a:t> – one of greatest escapes in histor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4419720" y="1523880"/>
            <a:ext cx="4295520" cy="447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fornian FB"/>
              </a:rPr>
              <a:t>The Long Mar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alifornian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fornian FB"/>
              </a:rPr>
              <a:t>Retreated to North Central China to escape the Nationalis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alifornian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fornian FB"/>
              </a:rPr>
              <a:t>100,000 men, women and childr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alifornian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fornian FB"/>
              </a:rPr>
              <a:t>6,000 mile journey lasting 1 ye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alifornian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fornian FB"/>
              </a:rPr>
              <a:t>Crossed 18 mountain ranges, dozens of rivers, and swamp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alifornian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fornian FB"/>
              </a:rPr>
              <a:t>Fought hunger and diseases while fighting off the Nationalis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alifornian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fornian FB"/>
              </a:rPr>
              <a:t>Approximately one-fifth of the marchers surviv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609480" y="2133720"/>
            <a:ext cx="3810240" cy="29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fornian FB"/>
              </a:rPr>
              <a:t>World War 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fornian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fornian FB"/>
              </a:rPr>
              <a:t>WWII – Japan invaded Chin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fornian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fornian FB"/>
              </a:rPr>
              <a:t>Mao and Chiang</a:t>
            </a:r>
            <a:r>
              <a:rPr b="0" lang="en-US" sz="2800" spc="-1" strike="noStrike">
                <a:solidFill>
                  <a:srgbClr val="000000"/>
                </a:solidFill>
                <a:latin typeface="Californian FB"/>
              </a:rPr>
              <a:t> became uneasy allies against the Japanese (a common enemy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fornian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fornian FB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alifornian FB"/>
              </a:rPr>
              <a:t>The enemy of my enemy is my friend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4495680" y="2057400"/>
            <a:ext cx="443880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fornian FB"/>
              </a:rPr>
              <a:t>World War II E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fornian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fornian FB"/>
              </a:rPr>
              <a:t>WWII ended (194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fornian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fornian FB"/>
              </a:rPr>
              <a:t>“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fornian FB"/>
              </a:rPr>
              <a:t>Civil war”</a:t>
            </a:r>
            <a:r>
              <a:rPr b="0" lang="en-US" sz="2800" spc="-1" strike="noStrike">
                <a:solidFill>
                  <a:srgbClr val="000000"/>
                </a:solidFill>
                <a:latin typeface="Californian FB"/>
              </a:rPr>
              <a:t> between Chiang (Nationalists) and Mao (Communists) resume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chiang kai shek mao zedong 234x300 THE REPUBLIC OF CHINA [ 1912 1949 ]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990720" y="1600200"/>
            <a:ext cx="3016080" cy="38703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 rot="3513000">
            <a:off x="2117880" y="1996200"/>
            <a:ext cx="914400" cy="274680"/>
          </a:xfrm>
          <a:prstGeom prst="lightningBol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240" bIns="39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rot="3513000">
            <a:off x="2148120" y="2757960"/>
            <a:ext cx="914400" cy="274680"/>
          </a:xfrm>
          <a:prstGeom prst="lightningBol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240" bIns="39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rot="3513000">
            <a:off x="2117880" y="3520080"/>
            <a:ext cx="914400" cy="274680"/>
          </a:xfrm>
          <a:prstGeom prst="lightningBol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240" bIns="39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rot="3513000">
            <a:off x="2117880" y="4282200"/>
            <a:ext cx="914400" cy="274680"/>
          </a:xfrm>
          <a:prstGeom prst="lightningBol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240" bIns="39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rot="3513000">
            <a:off x="2148120" y="5196600"/>
            <a:ext cx="914400" cy="274680"/>
          </a:xfrm>
          <a:prstGeom prst="lightningBol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240" bIns="39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676520" y="5608800"/>
            <a:ext cx="4038480" cy="12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fornian FB"/>
              </a:rPr>
              <a:t>SHAZAM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fornian FB"/>
              </a:rPr>
              <a:t>Conditions in China Wors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fornian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fornian FB"/>
              </a:rPr>
              <a:t>China’s poverty worsened as a result of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fornian FB"/>
              </a:rPr>
              <a:t>WWII</a:t>
            </a:r>
            <a:r>
              <a:rPr b="0" lang="en-US" sz="2400" spc="-1" strike="noStrike">
                <a:solidFill>
                  <a:srgbClr val="000000"/>
                </a:solidFill>
                <a:latin typeface="Californian FB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fornian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fornian FB"/>
              </a:rPr>
              <a:t>Many Chinese blamed bad conditions o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fornian FB"/>
              </a:rPr>
              <a:t>Chiang and the Nationalists</a:t>
            </a:r>
            <a:r>
              <a:rPr b="0" lang="en-US" sz="2400" spc="-1" strike="noStrike">
                <a:solidFill>
                  <a:srgbClr val="000000"/>
                </a:solidFill>
                <a:latin typeface="Californian FB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fornian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fornian FB"/>
              </a:rPr>
              <a:t>Lacking popular support and weakened by corruption, th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fornian FB"/>
              </a:rPr>
              <a:t>Nationalist Party collapsed</a:t>
            </a:r>
            <a:r>
              <a:rPr b="0" lang="en-US" sz="2400" spc="-1" strike="noStrike">
                <a:solidFill>
                  <a:srgbClr val="000000"/>
                </a:solidFill>
                <a:latin typeface="Californian FB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fornian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fornian FB"/>
              </a:rPr>
              <a:t>Chiang and the Nationalist government flee to off-shore island of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fornian FB"/>
              </a:rPr>
              <a:t>Taiwan</a:t>
            </a:r>
            <a:r>
              <a:rPr b="0" lang="en-US" sz="2400" spc="-1" strike="noStrike">
                <a:solidFill>
                  <a:srgbClr val="000000"/>
                </a:solidFill>
                <a:latin typeface="Californian FB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4724280" y="2133720"/>
            <a:ext cx="3729240" cy="31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fornian FB"/>
              </a:rPr>
              <a:t>The People’s Republic of Chi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fornian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fornian FB"/>
              </a:rPr>
              <a:t>October 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fornian FB"/>
              </a:rPr>
              <a:t>st</a:t>
            </a:r>
            <a:r>
              <a:rPr b="0" lang="en-US" sz="2800" spc="-1" strike="noStrike">
                <a:solidFill>
                  <a:srgbClr val="000000"/>
                </a:solidFill>
                <a:latin typeface="Californian FB"/>
              </a:rPr>
              <a:t>, 194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fornian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fornian FB"/>
              </a:rPr>
              <a:t>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fornian FB"/>
              </a:rPr>
              <a:t>Mao Zedong</a:t>
            </a:r>
            <a:r>
              <a:rPr b="0" lang="en-US" sz="2800" spc="-1" strike="noStrike">
                <a:solidFill>
                  <a:srgbClr val="000000"/>
                </a:solidFill>
                <a:latin typeface="Californian FB"/>
              </a:rPr>
              <a:t>, Chairman of China’s Communist Party proclaims the new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fornian FB"/>
              </a:rPr>
              <a:t>People’s Republic of China</a:t>
            </a:r>
            <a:r>
              <a:rPr b="1" lang="en-US" sz="2800" spc="-1" strike="noStrike">
                <a:solidFill>
                  <a:srgbClr val="000000"/>
                </a:solidFill>
                <a:latin typeface="Californian FB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882720" y="1600200"/>
            <a:ext cx="31878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fornian FB"/>
              </a:rPr>
              <a:t>1600’s - 191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fornian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fornian FB"/>
              </a:rPr>
              <a:t>Manchus (people of Manchuria – NE China) invaded China &amp; seized power from the Ming Dynas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fornian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fornian FB"/>
              </a:rPr>
              <a:t>They took a Chinese name for their dynasty –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fornian FB"/>
              </a:rPr>
              <a:t>Qing Dynas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5257800" y="2057400"/>
            <a:ext cx="29052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fornian FB"/>
              </a:rPr>
              <a:t>The Qing Dynas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fornian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fornian FB"/>
              </a:rPr>
              <a:t>Empress Dowager Cixi presented China with a weak central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fornian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fornian FB"/>
              </a:rPr>
              <a:t>She died in 1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fornian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fornian FB"/>
              </a:rPr>
              <a:t>Puyi, at age two, was appointed the success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fornian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fornian FB"/>
              </a:rPr>
              <a:t>Puyi</a:t>
            </a:r>
            <a:r>
              <a:rPr b="0" lang="en-US" sz="2800" spc="-1" strike="noStrike">
                <a:solidFill>
                  <a:srgbClr val="000000"/>
                </a:solidFill>
                <a:latin typeface="Californian FB"/>
              </a:rPr>
              <a:t> became the last emperor of Ch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fornian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fornian FB"/>
              </a:rPr>
              <a:t>Dynasty will fall 19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295280" y="1676520"/>
            <a:ext cx="224964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fornian FB"/>
              </a:rPr>
              <a:t>Sun Yixian(Yatse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fornian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fornian FB"/>
              </a:rPr>
              <a:t>Sun Yatsen</a:t>
            </a:r>
            <a:r>
              <a:rPr b="0" lang="en-US" sz="2800" spc="-1" strike="noStrike">
                <a:solidFill>
                  <a:srgbClr val="000000"/>
                </a:solidFill>
                <a:latin typeface="Californian FB"/>
              </a:rPr>
              <a:t> led the Nationalist Party (also called Kuominta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fornian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fornian FB"/>
              </a:rPr>
              <a:t>The Nationalists wanted to modernize and democratize Ch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5102280" y="1600200"/>
            <a:ext cx="3128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alifornian FB"/>
              </a:rPr>
              <a:t>Goals of the Nationalis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fornian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fornian FB"/>
              </a:rPr>
              <a:t>Rid China of foreign infl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fornian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fornian FB"/>
              </a:rPr>
              <a:t>Set up a democra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fornian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fornian FB"/>
              </a:rPr>
              <a:t>Improve life for all Chine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80880" y="1676520"/>
            <a:ext cx="4038840" cy="267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fornian FB"/>
              </a:rPr>
              <a:t>1912-191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fornian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fornian FB"/>
              </a:rPr>
              <a:t>Sun lacked authority &amp; military sup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fornian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fornian FB"/>
              </a:rPr>
              <a:t>He turned over the presidency to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fornian FB"/>
              </a:rPr>
              <a:t>Yuan Shikai</a:t>
            </a:r>
            <a:r>
              <a:rPr b="0" lang="en-US" sz="2400" spc="-1" strike="noStrike">
                <a:solidFill>
                  <a:srgbClr val="000000"/>
                </a:solidFill>
                <a:latin typeface="Californian FB"/>
              </a:rPr>
              <a:t>, a powerful genera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fornian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fornian FB"/>
              </a:rPr>
              <a:t>Yua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fornian FB"/>
              </a:rPr>
              <a:t>betrayed the democratic ideals</a:t>
            </a:r>
            <a:r>
              <a:rPr b="0" lang="en-US" sz="2400" spc="-1" strike="noStrike">
                <a:solidFill>
                  <a:srgbClr val="000000"/>
                </a:solidFill>
                <a:latin typeface="Californian FB"/>
              </a:rPr>
              <a:t> of Sun and became a dictat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fornian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fornian FB"/>
              </a:rPr>
              <a:t>Yuan died in 1916;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fornian FB"/>
              </a:rPr>
              <a:t>military generals took control.</a:t>
            </a:r>
            <a:r>
              <a:rPr b="0" lang="en-US" sz="2400" spc="-1" strike="noStrike">
                <a:solidFill>
                  <a:srgbClr val="000000"/>
                </a:solidFill>
                <a:latin typeface="Californian FB"/>
              </a:rPr>
              <a:t>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fornian FB"/>
              </a:rPr>
              <a:t>Violence and peasant hardship continued</a:t>
            </a:r>
            <a:r>
              <a:rPr b="0" lang="en-US" sz="2400" spc="-1" strike="noStrike">
                <a:solidFill>
                  <a:srgbClr val="000000"/>
                </a:solidFill>
                <a:latin typeface="Californian FB"/>
              </a:rPr>
              <a:t> in Chi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5410080" y="1962000"/>
            <a:ext cx="2381400" cy="32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fornian FB"/>
              </a:rPr>
              <a:t>AFTER WWI – The Nationalis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fornian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fornian FB"/>
              </a:rPr>
              <a:t>Chiang Kai-shek (Jiang Jieshi)</a:t>
            </a:r>
            <a:r>
              <a:rPr b="0" lang="en-US" sz="2800" spc="-1" strike="noStrike">
                <a:solidFill>
                  <a:srgbClr val="000000"/>
                </a:solidFill>
                <a:latin typeface="Californian FB"/>
              </a:rPr>
              <a:t> joins Sun and the Nationalist Par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fornian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fornian FB"/>
              </a:rPr>
              <a:t>Promoted economic development:</a:t>
            </a:r>
            <a:r>
              <a:rPr b="0" lang="en-US" sz="2800" spc="-1" strike="noStrike">
                <a:solidFill>
                  <a:srgbClr val="000000"/>
                </a:solidFill>
                <a:latin typeface="Californian FB"/>
              </a:rPr>
              <a:t> built schools and roa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fornian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fornian FB"/>
              </a:rPr>
              <a:t>Did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fornian FB"/>
              </a:rPr>
              <a:t>little to improve living standards of the peasa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57200" y="2209680"/>
            <a:ext cx="4038480" cy="242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fornian FB"/>
              </a:rPr>
              <a:t>1925 – </a:t>
            </a:r>
            <a:r>
              <a:rPr b="1" lang="en-US" sz="4400" spc="-1" strike="noStrike" u="sng">
                <a:solidFill>
                  <a:srgbClr val="000000"/>
                </a:solidFill>
                <a:uFillTx/>
                <a:latin typeface="Californian FB"/>
              </a:rPr>
              <a:t>Sun Yatsen</a:t>
            </a:r>
            <a:r>
              <a:rPr b="1" lang="en-US" sz="4400" spc="-1" strike="noStrike">
                <a:solidFill>
                  <a:srgbClr val="000000"/>
                </a:solidFill>
                <a:latin typeface="Californian FB"/>
              </a:rPr>
              <a:t> di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fornian FB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457200" y="1828800"/>
            <a:ext cx="4038480" cy="32194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4013280" cy="30099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451520" y="5181480"/>
            <a:ext cx="21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eral Proce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854320" y="5181480"/>
            <a:ext cx="213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n Yatsen Tribu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ananmen Squ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fornian FB"/>
              </a:rPr>
              <a:t>Nationalists Take Contr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fornian FB"/>
              </a:rPr>
              <a:t>19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fornian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fornian FB"/>
              </a:rPr>
              <a:t>Chiang Kai-shek and the Nationalist army defeated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fornian FB"/>
              </a:rPr>
              <a:t>the warlords (military generals)</a:t>
            </a:r>
            <a:r>
              <a:rPr b="0" lang="en-US" sz="2800" spc="-1" strike="noStrike">
                <a:solidFill>
                  <a:srgbClr val="000000"/>
                </a:solidFill>
                <a:latin typeface="Californian FB"/>
              </a:rPr>
              <a:t> and took control of Chin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4952880" y="1371600"/>
            <a:ext cx="32878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26T19:07:03Z</dcterms:created>
  <dc:creator>MCPASD</dc:creator>
  <dc:description/>
  <dc:language>en-US</dc:language>
  <cp:lastModifiedBy>MCPASD</cp:lastModifiedBy>
  <dcterms:modified xsi:type="dcterms:W3CDTF">2012-05-02T14:00:12Z</dcterms:modified>
  <cp:revision>26</cp:revision>
  <dc:subject/>
  <dc:title>CHINA’S ROAD TO COMMUNISM</dc:title>
</cp:coreProperties>
</file>